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81000" y="74520"/>
            <a:ext cx="6684840" cy="955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QUEST AND AUTHORIZATION FOR TDY TRAVEL OF DOD PERSONNEL                    DATE OF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REFERENCE:  JOINT TRAVEL REGULATIONS)                               REQUES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AUTHORIZED AS INDICATED IN ITEMS 2 THROUGH 21.                    6 NOV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EQUEST FOR OFFICIAL TRAVEL                                      .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.  NAME (LAST, FIRST, MIDDLE INITIAL          3. POSITION TITLE AND GRADE OR R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ORJES, KEN H.     134-90-8888             ADMIN NCOIC, S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.     OFFICIAL STATION                        5.  ORGANIZATIONAL ELEMENT       6.  PHONE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                        HHC, 23D BDE                     78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.  TYPE OF ORDERS     8. SECURITY CLEARANCE   9.  PURPOSE OF TD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DY                   SECRET               CLASS 28-** PERSONNEL MGMT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#5-20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0a.APPROX NO OF DAY   b. PROCEED O/A (D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 TDY (INCLUDING)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TIME)             05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ITINERARY             [ ]VARIATION AUTHORIZ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05 DEC **    FROM FT. STEWART, - ARR FT. SHERIDAN, I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 DEC **    DEP FT. SHERIDAN - ARR FT. STEW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2.                           MODE OF TRANSPOR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OMMERCIAL               GOVERNMENT                PRIVATELY OWNED CONVEYANCE (CHECK ONE)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AIL AIR  BUS  SHIP   AIR  VEHICLE  SHIP          RATE  PER MILE  .31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XX                                            [ ] MORE ADVANTAGEOUS TO GOVERN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ILEAGE REIMBURSEMENT AND PERDIEM 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 DETERMINED BY APPROPRIATE                   [ ]TO CONSTRUCTIVE COST OF COMMON CARRI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TRANSPORTATION OFFICER (O/S ONLY)                 TRANSPORTATION &amp; RELATED PER DIEM 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TERMINED IN JTR.  TRAVEL TIME L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AS INDICATED IN JTR.                    .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3.  [X]  PERDIEM AUTHORIZED IN ACCORDANCE WITH JT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[ ] OTHER RATE OF PER DIEM (SPECIFY)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4.                               ESTIMATED COST                           15.  ADVANCE       .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R DIEM            TRAVEL           OTHER             TOTAL            AUTHORIZE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$  365.00             $  425.00        $  0.00          $  790.00               MAX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  REMARKS  (USE THIS SPACE FOR SPECIAL REQUIREMENTS, LEAVE, SUPERIOR OR 1ST CLAS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SS BAGGAGE, REGISTRATION FEES, ETC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OVERNMENT QUARTERS AND MESSING FACILITIES ARE AVAILABL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REQUESTING OFFICIAL (TITLE/SIGNATURE)         18. APPROVING OFFICIAL (TITLE AND SIGNATUR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                  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ATHERINE GARRITY, CPT, AG,ADMIN OFFICER          ROBERT L. EICHLER, LTC, GS, COMPTROL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UTHORIZ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9. ACCOUNTING CI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1 BOR8888TT/N103 S09076  $425.00      HORANCE R. BEEM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2 BOR8888TT/N103 S09076  $365.00      MAJ, 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BUDGET OFFICER        .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.  ORDER AUTHORIZING OFFICIAL (TITLE AND SIGNATURE)               21.  DATE ISSU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2.  TRAVEL ORDER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35080" y="36576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82440" y="25909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352680" y="84456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15303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248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9343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71629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30760" y="815328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5080" y="69343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32767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1430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52388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33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1149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30481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1981080"/>
            <a:ext cx="319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79311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320" y="8532720"/>
            <a:ext cx="2650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610 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352680" y="67896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3282840"/>
            <a:ext cx="0" cy="120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3809880"/>
            <a:ext cx="327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282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511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959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4807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240" y="861048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14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5" name=""/>
          <p:cNvGraphicFramePr/>
          <p:nvPr/>
        </p:nvGraphicFramePr>
        <p:xfrm>
          <a:off x="152280" y="152280"/>
          <a:ext cx="6858000" cy="830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6858000" cy="83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38880" y="8521560"/>
            <a:ext cx="6310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  40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8" name=""/>
          <p:cNvGraphicFramePr/>
          <p:nvPr/>
        </p:nvGraphicFramePr>
        <p:xfrm>
          <a:off x="0" y="152280"/>
          <a:ext cx="6858000" cy="868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6858000" cy="868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"/>
          <p:cNvSpPr/>
          <p:nvPr/>
        </p:nvSpPr>
        <p:spPr>
          <a:xfrm>
            <a:off x="38880" y="8610480"/>
            <a:ext cx="6246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 44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0" y="0"/>
          <a:ext cx="6858000" cy="853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853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38880" y="8610480"/>
            <a:ext cx="6246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 46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4" name=""/>
          <p:cNvGraphicFramePr/>
          <p:nvPr/>
        </p:nvGraphicFramePr>
        <p:xfrm>
          <a:off x="0" y="152280"/>
          <a:ext cx="6858000" cy="845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6858000" cy="845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"/>
          <p:cNvSpPr/>
          <p:nvPr/>
        </p:nvSpPr>
        <p:spPr>
          <a:xfrm>
            <a:off x="38880" y="8521560"/>
            <a:ext cx="6310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  48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7" name=""/>
          <p:cNvGraphicFramePr/>
          <p:nvPr/>
        </p:nvGraphicFramePr>
        <p:xfrm>
          <a:off x="0" y="152280"/>
          <a:ext cx="6858000" cy="853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6858000" cy="853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>
            <a:off x="38880" y="8610480"/>
            <a:ext cx="6246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 52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"/>
          <p:cNvGraphicFramePr/>
          <p:nvPr/>
        </p:nvGraphicFramePr>
        <p:xfrm>
          <a:off x="0" y="152280"/>
          <a:ext cx="6858000" cy="853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6858000" cy="853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"/>
          <p:cNvSpPr/>
          <p:nvPr/>
        </p:nvSpPr>
        <p:spPr>
          <a:xfrm>
            <a:off x="38880" y="8610480"/>
            <a:ext cx="6246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 54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3" name=""/>
          <p:cNvGraphicFramePr/>
          <p:nvPr/>
        </p:nvGraphicFramePr>
        <p:xfrm>
          <a:off x="0" y="152280"/>
          <a:ext cx="6858000" cy="853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6858000" cy="853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"/>
          <p:cNvSpPr/>
          <p:nvPr/>
        </p:nvSpPr>
        <p:spPr>
          <a:xfrm>
            <a:off x="38880" y="8610480"/>
            <a:ext cx="6246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 56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84040" y="228600"/>
            <a:ext cx="6345360" cy="846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ANDARD FORM 23                                              CONTRACT NO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JANUARY 1961 EDITION         CONSTRUCTION CONTRACT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DAFI01 **C 1391  .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SEE INSTRUCTION ON REVERSE)      DATE OF CONTR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6 NOV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AME AND ADDRESS OF CONTRACTOR                               CHECK APPROPRIATE B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 ] INDIVI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MITH BROTHERS BUILDING &amp; SUPPLY                         [ ] PARTNER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130 S. MADISON                                          [ ] JOINT VEN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ANNAH, GA  31314                                      [X] CORPORATION IN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THE STATE OF: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PARTMENT OR AGENCY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PARTMENT OF THE AR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NTRACT FOR (WORK TO BE PERFORMED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INOR REPAIR AND PAINTING EXTERIOR OF BLDGS# 3408, 3207, 4630, 4909, 4881, and 501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LAC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T. STEWART, GA. 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NTRACT PRICE (EXPRESS IN WORDS AND FIGURES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IXTY THOUSAND DOLLARS                                           $6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DMINISTRATIVE DATA (OPTIONAL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*2020 76-9505 117078.Z0-25CZ W23DFB*3530013/LJ00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PROGRESS PAYMENTS ARE AUTHORIZED AT THE RATE OF 10% PER BLDG COMPLET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UNITED STATES OF AMERICA (HEREINAFTER CALLED THE GOVERNMENT), REPRESENTE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CONTRACTING OFFICER EXECUTING THIS CONTRACT, AND THE INDIVIDUAL, PARTNER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JOINT VENTURE, OR CORPORATION NAMED ABOVE (HEREINAFTER CALLED THE CONTRACTOR)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UTUALLY AGREE TO PERFORM THIS CONTRACT IN STRICT ACCORDANCE WITH THE GEN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OVISIONS (SF23-A), LABOR STANDARDS PROVISIONS APPLICABLE TO CONTRACTS IN EXCESS OF $2,000 (SF 19-A), AND THE FOLLOWING DESIGNATED SPECIFICATIONS, SCHEDULES,DRAWINGS, AND CONDITION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ORK SHALL BE STARTED:                   WORK SHALL BE COMPLE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6 NOV **                                    15 APR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1040" y="114300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04920" y="2286000"/>
            <a:ext cx="632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876920" y="228600"/>
            <a:ext cx="0" cy="197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11040" y="251460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1040" y="297180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1040" y="358128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1040" y="403848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1040" y="784872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78487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04920" y="4495680"/>
            <a:ext cx="63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9240" y="875016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62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"/>
          <p:cNvGrpSpPr/>
          <p:nvPr/>
        </p:nvGrpSpPr>
        <p:grpSpPr>
          <a:xfrm>
            <a:off x="228600" y="457200"/>
            <a:ext cx="6319800" cy="8308440"/>
            <a:chOff x="228600" y="457200"/>
            <a:chExt cx="6319800" cy="8308440"/>
          </a:xfrm>
        </p:grpSpPr>
        <p:sp>
          <p:nvSpPr>
            <p:cNvPr id="499" name=""/>
            <p:cNvSpPr/>
            <p:nvPr/>
          </p:nvSpPr>
          <p:spPr>
            <a:xfrm>
              <a:off x="228600" y="457200"/>
              <a:ext cx="4756320" cy="231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006560" y="500040"/>
              <a:ext cx="335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TERIAL INSPECTION AND RECEIVING RE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8600" y="7653240"/>
              <a:ext cx="6319800" cy="966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480" y="7696080"/>
              <a:ext cx="900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3. CONTRACTOR USE ONL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9520" y="43876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23760" y="4387680"/>
              <a:ext cx="1753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BLDG # 3408 &amp; 3207 COMPLET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GRESS PAYMENT 20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927720" y="52768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928080" y="5423040"/>
              <a:ext cx="8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28080" y="5576760"/>
              <a:ext cx="8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940360" y="4387680"/>
              <a:ext cx="464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2,000.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872600" y="4387680"/>
              <a:ext cx="57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2,000.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575240" y="1235160"/>
              <a:ext cx="495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575240" y="1235160"/>
              <a:ext cx="495360" cy="272880"/>
            </a:xfrm>
            <a:custGeom>
              <a:avLst/>
              <a:gdLst/>
              <a:ahLst/>
              <a:rect l="l" t="t" r="r" b="b"/>
              <a:pathLst>
                <a:path w="58" h="32">
                  <a:moveTo>
                    <a:pt x="58" y="32"/>
                  </a:move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615920" y="1260360"/>
              <a:ext cx="287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7.   PAG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13240" y="7251840"/>
              <a:ext cx="2135160" cy="411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69400" y="7251840"/>
              <a:ext cx="180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* If quantity received by the Government is th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465080" y="7346880"/>
              <a:ext cx="1520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same as quantity shipped, indicate by (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039760" y="1508040"/>
              <a:ext cx="2049480" cy="138240"/>
            </a:xfrm>
            <a:custGeom>
              <a:avLst/>
              <a:gdLst/>
              <a:ahLst/>
              <a:rect l="l" t="t" r="r" b="b"/>
              <a:pathLst>
                <a:path w="240" h="16">
                  <a:moveTo>
                    <a:pt x="0" y="0"/>
                  </a:moveTo>
                  <a:lnTo>
                    <a:pt x="240" y="0"/>
                  </a:lnTo>
                  <a:lnTo>
                    <a:pt x="240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2039760" y="1508040"/>
              <a:ext cx="1800" cy="13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067480" y="1525680"/>
              <a:ext cx="35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4. B/L  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479920" y="3970440"/>
              <a:ext cx="106848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625360" y="398772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0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34440" y="394488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05720" y="4192560"/>
              <a:ext cx="38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MOU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479920" y="4379760"/>
              <a:ext cx="1068480" cy="1778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413240" y="3970440"/>
              <a:ext cx="32400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47440" y="398772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8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548600" y="39448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531680" y="406404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473720" y="4192560"/>
              <a:ext cx="206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413240" y="4379760"/>
              <a:ext cx="324000" cy="1778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87400" y="3970440"/>
              <a:ext cx="279252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056240" y="3987720"/>
              <a:ext cx="107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6.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192320" y="3962520"/>
              <a:ext cx="1015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OCK/PART NO.        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78080" y="3987720"/>
              <a:ext cx="4032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00080" y="3962520"/>
              <a:ext cx="703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SCRIPTION 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67560" y="4081320"/>
              <a:ext cx="1879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(Indicate number of shipping containers - type o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622160" y="4192560"/>
              <a:ext cx="1200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container - container number.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19240" y="41925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87400" y="4379760"/>
              <a:ext cx="2792520" cy="1778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37960" y="6294600"/>
              <a:ext cx="1963800" cy="1368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000440" y="6311880"/>
              <a:ext cx="42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. ORIGI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28600" y="3970440"/>
              <a:ext cx="65880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2440" y="3987720"/>
              <a:ext cx="455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5.            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1440" y="4192560"/>
              <a:ext cx="21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T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8600" y="689040"/>
              <a:ext cx="6319800" cy="469800"/>
            </a:xfrm>
            <a:custGeom>
              <a:avLst/>
              <a:gdLst/>
              <a:ahLst/>
              <a:rect l="l" t="t" r="r" b="b"/>
              <a:pathLst>
                <a:path w="740" h="55">
                  <a:moveTo>
                    <a:pt x="0" y="0"/>
                  </a:moveTo>
                  <a:lnTo>
                    <a:pt x="740" y="0"/>
                  </a:lnTo>
                  <a:lnTo>
                    <a:pt x="74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228600" y="688680"/>
              <a:ext cx="1440" cy="46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43720" y="714240"/>
              <a:ext cx="5421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ublic reporting burden for this collection of information is estimated to average 30 minutes per response, including the time for reviewing instructions, searching existing data sources, gathering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44800" y="782640"/>
              <a:ext cx="5089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nd maintaining the data needed, and completing and reviewing the collection of information.  Send comments regarding this burden estimate or any other aspect of this collection of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40840" y="851040"/>
              <a:ext cx="5373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nformation, including suggestions for reducing this burden, to Department of Defense, Washington Headquarters Services, Directorate for Information Operations and Reports, 1215 Jeffers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8040" y="919080"/>
              <a:ext cx="4766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avis Highway, Suite 1204, Arlington, VA 22202-4302, and to the Office of Management and Budget, Paperwork Reduction Project (0704-0248), Washington, DC 20503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28600" y="1235160"/>
              <a:ext cx="238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28600" y="1235160"/>
              <a:ext cx="2382840" cy="272880"/>
            </a:xfrm>
            <a:custGeom>
              <a:avLst/>
              <a:gdLst/>
              <a:ahLst/>
              <a:rect l="l" t="t" r="r" b="b"/>
              <a:pathLst>
                <a:path w="279" h="32">
                  <a:moveTo>
                    <a:pt x="279" y="32"/>
                  </a:move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64240" y="1270080"/>
              <a:ext cx="1317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. PROC. INSTRUMENT IDEN. (CONTRACT)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81200" y="12445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840" y="1336680"/>
              <a:ext cx="912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FI01-**-C 159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432240" y="1235160"/>
              <a:ext cx="1143000" cy="272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468960" y="1270080"/>
              <a:ext cx="675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6. INVOICE NO./DAT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8600" y="1508040"/>
              <a:ext cx="990720" cy="411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67480" y="1525680"/>
              <a:ext cx="554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. SHIPMENT NO.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78040" y="15001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71440" y="16016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039760" y="1508040"/>
              <a:ext cx="2049480" cy="274680"/>
            </a:xfrm>
            <a:custGeom>
              <a:avLst/>
              <a:gdLst/>
              <a:ahLst/>
              <a:rect l="l" t="t" r="r" b="b"/>
              <a:pathLst>
                <a:path w="240" h="32">
                  <a:moveTo>
                    <a:pt x="0" y="0"/>
                  </a:moveTo>
                  <a:lnTo>
                    <a:pt x="240" y="0"/>
                  </a:lnTo>
                  <a:lnTo>
                    <a:pt x="24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2039760" y="1507680"/>
              <a:ext cx="1800" cy="27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72160" y="1482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072160" y="16034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089240" y="1508040"/>
              <a:ext cx="2459160" cy="411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119480" y="1525680"/>
              <a:ext cx="648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5. DISCOUNT TERM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30720" y="16016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0000" y="8628120"/>
              <a:ext cx="1158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D Form 250, NOV 9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959080" y="8688240"/>
              <a:ext cx="447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USAPPC V1.0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984920" y="457200"/>
              <a:ext cx="1563480" cy="231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22680" y="492120"/>
              <a:ext cx="586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Form Approved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425920" y="568440"/>
              <a:ext cx="584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OMB No. 0704-024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479920" y="1235160"/>
              <a:ext cx="1068480" cy="272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20240" y="1260360"/>
              <a:ext cx="7232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8. ACCEPTANCE POIN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611440" y="1235160"/>
              <a:ext cx="820800" cy="272880"/>
            </a:xfrm>
            <a:custGeom>
              <a:avLst/>
              <a:gdLst/>
              <a:ahLst/>
              <a:rect l="l" t="t" r="r" b="b"/>
              <a:pathLst>
                <a:path w="96" h="32">
                  <a:moveTo>
                    <a:pt x="96" y="0"/>
                  </a:moveTo>
                  <a:lnTo>
                    <a:pt x="96" y="32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611440" y="1235160"/>
              <a:ext cx="820800" cy="136440"/>
            </a:xfrm>
            <a:custGeom>
              <a:avLst/>
              <a:gdLst/>
              <a:ahLst/>
              <a:rect l="l" t="t" r="r" b="b"/>
              <a:pathLst>
                <a:path w="96" h="16">
                  <a:moveTo>
                    <a:pt x="0" y="0"/>
                  </a:moveTo>
                  <a:lnTo>
                    <a:pt x="96" y="0"/>
                  </a:lnTo>
                  <a:lnTo>
                    <a:pt x="96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2611440" y="1234800"/>
              <a:ext cx="1440" cy="13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652120" y="1260360"/>
              <a:ext cx="406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(ORDER) NO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19320" y="1508040"/>
              <a:ext cx="820440" cy="411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52080" y="1525680"/>
              <a:ext cx="560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3. DATE SHIPPED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860480" y="15001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54240" y="16016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039760" y="1697040"/>
              <a:ext cx="2049480" cy="222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071800" y="1757520"/>
              <a:ext cx="168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CN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28600" y="3286080"/>
              <a:ext cx="3203640" cy="684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57760" y="3328920"/>
              <a:ext cx="989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3. SHIPPED TO                   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433520" y="33037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458000" y="32860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71440" y="34304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1440" y="35766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7840" y="3720960"/>
              <a:ext cx="1404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ORT STEWART, GA 313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039760" y="3286080"/>
              <a:ext cx="1392480" cy="179280"/>
            </a:xfrm>
            <a:custGeom>
              <a:avLst/>
              <a:gdLst/>
              <a:ahLst/>
              <a:rect l="l" t="t" r="r" b="b"/>
              <a:pathLst>
                <a:path w="163" h="21">
                  <a:moveTo>
                    <a:pt x="0" y="0"/>
                  </a:moveTo>
                  <a:lnTo>
                    <a:pt x="163" y="0"/>
                  </a:lnTo>
                  <a:lnTo>
                    <a:pt x="163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2039760" y="3286080"/>
              <a:ext cx="1800" cy="17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28600" y="2603520"/>
              <a:ext cx="3203640" cy="682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68560" y="2646360"/>
              <a:ext cx="595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1. SHIPPED FRO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97840" y="2646360"/>
              <a:ext cx="474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(If other than 9)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455840" y="2646360"/>
              <a:ext cx="128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039760" y="2603520"/>
              <a:ext cx="733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2039760" y="2603520"/>
              <a:ext cx="1800" cy="17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796840" y="2662200"/>
              <a:ext cx="151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OB: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953440" y="26370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432240" y="3286080"/>
              <a:ext cx="3116160" cy="684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67880" y="3328920"/>
              <a:ext cx="662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4. MARKED FOR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207680" y="3286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79920" y="3286080"/>
              <a:ext cx="1059120" cy="179280"/>
            </a:xfrm>
            <a:custGeom>
              <a:avLst/>
              <a:gdLst/>
              <a:ahLst/>
              <a:rect l="l" t="t" r="r" b="b"/>
              <a:pathLst>
                <a:path w="124" h="21">
                  <a:moveTo>
                    <a:pt x="0" y="0"/>
                  </a:moveTo>
                  <a:lnTo>
                    <a:pt x="124" y="0"/>
                  </a:lnTo>
                  <a:lnTo>
                    <a:pt x="124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5479920" y="3286080"/>
              <a:ext cx="1800" cy="17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432240" y="2603520"/>
              <a:ext cx="3116160" cy="682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468600" y="2646360"/>
              <a:ext cx="1012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2. PAYMENT WILL BE MADE BY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73280" y="27478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473280" y="28926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469680" y="3038400"/>
              <a:ext cx="1404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ORT STEWART, GA 313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479920" y="2603520"/>
              <a:ext cx="1059120" cy="179280"/>
            </a:xfrm>
            <a:custGeom>
              <a:avLst/>
              <a:gdLst/>
              <a:ahLst/>
              <a:rect l="l" t="t" r="r" b="b"/>
              <a:pathLst>
                <a:path w="124" h="21">
                  <a:moveTo>
                    <a:pt x="0" y="0"/>
                  </a:moveTo>
                  <a:lnTo>
                    <a:pt x="124" y="0"/>
                  </a:lnTo>
                  <a:lnTo>
                    <a:pt x="124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5479920" y="2603520"/>
              <a:ext cx="1800" cy="17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432240" y="1919160"/>
              <a:ext cx="3116160" cy="684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469680" y="1962000"/>
              <a:ext cx="749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0. ADMINISTERED BY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92640" y="191916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472200" y="2063880"/>
              <a:ext cx="75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&amp;C OFFICE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469680" y="2208240"/>
              <a:ext cx="1404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ORT STEWART, GA 313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79920" y="1919160"/>
              <a:ext cx="1059120" cy="179640"/>
            </a:xfrm>
            <a:custGeom>
              <a:avLst/>
              <a:gdLst/>
              <a:ahLst/>
              <a:rect l="l" t="t" r="r" b="b"/>
              <a:pathLst>
                <a:path w="124" h="21">
                  <a:moveTo>
                    <a:pt x="0" y="0"/>
                  </a:moveTo>
                  <a:lnTo>
                    <a:pt x="124" y="0"/>
                  </a:lnTo>
                  <a:lnTo>
                    <a:pt x="124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5479920" y="1918800"/>
              <a:ext cx="1800" cy="17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28600" y="1919160"/>
              <a:ext cx="3203640" cy="684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67120" y="1962000"/>
              <a:ext cx="762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9. PRIME CONTRACTOR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081440" y="19191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69280" y="2063880"/>
              <a:ext cx="18964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MITH BROTHERS BLDG &amp; SUPPL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130 S. MADIS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AVANNAH, GA  313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71440" y="22082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71440" y="23544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039760" y="1919160"/>
              <a:ext cx="1392480" cy="179640"/>
            </a:xfrm>
            <a:custGeom>
              <a:avLst/>
              <a:gdLst/>
              <a:ahLst/>
              <a:rect l="l" t="t" r="r" b="b"/>
              <a:pathLst>
                <a:path w="163" h="21">
                  <a:moveTo>
                    <a:pt x="0" y="0"/>
                  </a:moveTo>
                  <a:lnTo>
                    <a:pt x="163" y="0"/>
                  </a:lnTo>
                  <a:lnTo>
                    <a:pt x="163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2039760" y="1918800"/>
              <a:ext cx="1800" cy="17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044520" y="8637480"/>
              <a:ext cx="1178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Previous edition may be used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737240" y="3970440"/>
              <a:ext cx="74268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788720" y="398772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9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898160" y="3944880"/>
              <a:ext cx="54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061960" y="406404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857480" y="4192560"/>
              <a:ext cx="502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T PRI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679920" y="3970440"/>
              <a:ext cx="73332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738600" y="3987720"/>
              <a:ext cx="473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7.             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807000" y="4081320"/>
              <a:ext cx="447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762720" y="4192560"/>
              <a:ext cx="535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HIP/REC'D*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28600" y="6157800"/>
              <a:ext cx="4184640" cy="136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560600" y="6167520"/>
              <a:ext cx="1471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TRACT QUALITY ASSURAN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70720" y="619272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1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413240" y="6157800"/>
              <a:ext cx="2135160" cy="1094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454640" y="6183360"/>
              <a:ext cx="12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2.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16280" y="6157800"/>
              <a:ext cx="1152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CEIVER'S U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464720" y="6346800"/>
              <a:ext cx="177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Quantities shown in column 17 were receiv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466520" y="6432480"/>
              <a:ext cx="170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 apparent good condition except as noted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443840" y="6738840"/>
              <a:ext cx="1814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ATE RECEIVED           SIGNATURE OF AUTH GOVT RE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455000" y="691848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YPED NAM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453560" y="7013520"/>
              <a:ext cx="389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ND OFFIC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413240" y="6705720"/>
              <a:ext cx="735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2240" y="6705720"/>
              <a:ext cx="131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01760" y="6294600"/>
              <a:ext cx="2211480" cy="1368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945520" y="6311880"/>
              <a:ext cx="703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. DESTIN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84400" y="6568920"/>
              <a:ext cx="1634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as been made by me or under my super-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83680" y="6680160"/>
              <a:ext cx="167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ision and they conform to contract, excep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83320" y="6799320"/>
              <a:ext cx="174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 noted herein or on supporting documents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06360" y="6423120"/>
              <a:ext cx="119160" cy="13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0720" y="6458040"/>
              <a:ext cx="192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Q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08120" y="6423120"/>
              <a:ext cx="118800" cy="13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88120" y="6475320"/>
              <a:ext cx="1169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CEPTANCE of listed item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78080" y="6431040"/>
              <a:ext cx="120600" cy="137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449440" y="6475320"/>
              <a:ext cx="192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Q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89200" y="6431040"/>
              <a:ext cx="119160" cy="137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859840" y="6475320"/>
              <a:ext cx="1169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CEPTANCE of listed item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58280" y="6568920"/>
              <a:ext cx="2001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as been made by me or under my supervision a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59360" y="6680160"/>
              <a:ext cx="1879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y conform to contract, except as noted herei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252520" y="6799320"/>
              <a:ext cx="1113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 on supporting documents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0360" y="736272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YPED NAM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68920" y="7473960"/>
              <a:ext cx="389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ND OFFIC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243520" y="736272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YPED NAM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242080" y="7473960"/>
              <a:ext cx="346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ND TIITL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54840" y="195264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54840" y="263700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54840" y="332100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713240" y="195264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713240" y="263700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13240" y="332100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201760" y="7115040"/>
              <a:ext cx="614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413800" y="7132680"/>
              <a:ext cx="17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59120" y="7115040"/>
              <a:ext cx="1554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083400" y="7132680"/>
              <a:ext cx="1024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IGNATURE OF AUTH GOVT RE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4280" y="7115040"/>
              <a:ext cx="45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50000" y="7132680"/>
              <a:ext cx="17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09640" y="7115040"/>
              <a:ext cx="1392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957600" y="7132680"/>
              <a:ext cx="1024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IGNATURE OF AUTH GOVT RE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070600" y="1235160"/>
              <a:ext cx="409320" cy="272880"/>
            </a:xfrm>
            <a:custGeom>
              <a:avLst/>
              <a:gdLst/>
              <a:ahLst/>
              <a:rect l="l" t="t" r="r" b="b"/>
              <a:pathLst>
                <a:path w="48" h="32">
                  <a:moveTo>
                    <a:pt x="48" y="0"/>
                  </a:moveTo>
                  <a:lnTo>
                    <a:pt x="48" y="32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070600" y="1235160"/>
              <a:ext cx="409320" cy="13644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0" y="0"/>
                  </a:moveTo>
                  <a:lnTo>
                    <a:pt x="48" y="0"/>
                  </a:lnTo>
                  <a:lnTo>
                    <a:pt x="48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5070600" y="1234800"/>
              <a:ext cx="1440" cy="13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111640" y="1260360"/>
              <a:ext cx="90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90480" y="437976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0480" y="442260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0480" y="4475160"/>
              <a:ext cx="18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0480" y="45165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90480" y="45594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90480" y="4611600"/>
              <a:ext cx="18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690480" y="465444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90480" y="46972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90480" y="473868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90480" y="4791240"/>
            <a:ext cx="18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90480" y="483408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90480" y="487692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90480" y="4927680"/>
            <a:ext cx="18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90480" y="497052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90480" y="501336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90480" y="5064120"/>
            <a:ext cx="180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90480" y="510696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0480" y="514980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90480" y="5200560"/>
            <a:ext cx="180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90480" y="524340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90480" y="528624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90480" y="53290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90480" y="5380200"/>
            <a:ext cx="18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90480" y="542304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90480" y="546588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90480" y="5516640"/>
            <a:ext cx="18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90480" y="555948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90480" y="560232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90480" y="5654520"/>
            <a:ext cx="1800" cy="16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90480" y="569592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90480" y="573876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90480" y="5791320"/>
            <a:ext cx="180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90480" y="583416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90480" y="58752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90480" y="591804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90480" y="5970600"/>
            <a:ext cx="180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90480" y="601344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90480" y="60562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90480" y="6107040"/>
            <a:ext cx="180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90480" y="614988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6129360" y="7354800"/>
            <a:ext cx="93600" cy="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129360" y="738036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467240" y="7432560"/>
            <a:ext cx="158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if different, enter actual quantity receiv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62200" y="7526160"/>
            <a:ext cx="1418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below quantity shipped and encirc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193080" y="7346880"/>
            <a:ext cx="29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) mark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446480" y="979560"/>
            <a:ext cx="387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LEASE DO NOT RETURN YOUR COMPLETED FORM TO EITHER OF THESE ADDRESSE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011960" y="1090440"/>
            <a:ext cx="4623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THIS FORM IN ACCORDANCE WITH THE INSTRUCTIONS CONTAINED IN THE DFARS, APPENDIX F-401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011920" y="6850080"/>
            <a:ext cx="835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nis Ro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O, GM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28600" y="457200"/>
            <a:ext cx="6319800" cy="8163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72960" y="6881760"/>
            <a:ext cx="70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 Dec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984760" y="6881760"/>
            <a:ext cx="1126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Michael Gor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382640" y="6494400"/>
            <a:ext cx="70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 Dec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280480" y="6494400"/>
            <a:ext cx="1051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Dennis Ro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873520" y="7186680"/>
            <a:ext cx="1371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CHAEL GOR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acting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921960" y="4861080"/>
            <a:ext cx="304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76-9505 117078.Z0-25CZ W23DFB*3530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J00 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8880" y="8686800"/>
            <a:ext cx="6278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  64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6" name=""/>
          <p:cNvGraphicFramePr/>
          <p:nvPr/>
        </p:nvGraphicFramePr>
        <p:xfrm>
          <a:off x="0" y="0"/>
          <a:ext cx="6858000" cy="868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868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"/>
          <p:cNvSpPr/>
          <p:nvPr/>
        </p:nvSpPr>
        <p:spPr>
          <a:xfrm>
            <a:off x="38880" y="8521560"/>
            <a:ext cx="6310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  66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1000" y="74520"/>
            <a:ext cx="6684840" cy="941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QUEST AND AUTHORIZATION FOR TDY TRAVEL OF DOD PERSONNEL                    DATE OF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REFERENCE:  JOINT TRAVEL REGULATIONS)                               REQUES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AUTHORIZED AS INDICATED IN ITEMS 2 THROUGH 21.                    6 NOV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EQUEST FOR OFFICIAL TRAVEL                                      .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.  NAME (LAST, FIRST, MIDDLE INITIAL          3. POSITION TITLE AND GRADE OR R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ORJES, KEN H.     134-90-8888             ADMIN NCOIC, S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.     OFFICIAL STATION                        5.  ORGANIZATIONAL ELEMENT       6.  PHONE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                        HHC, 23D BDE                     78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.  TYPE OF ORDERS     8. SECURITY CLEARANCE   9.  PURPOSE OF TD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DY                   SECRET               CLASS 28-** PERSONNEL MGMT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#5-20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0a.APPROX NO OF DAY   b. PROCEED O/A (D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 TDY (INCLUDING)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TIME)                 05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ITINERARY             [ ]VARIATION AUTHORIZ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05 DEC **    FROM FT. STEWART, - ARR FT. SHERIDAN, I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 DEC **    DEP FT. SHERIDAN - ARR FT. STEW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2.                           MODE OF TRANSPOR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OMMERCIAL               GOVERNMENT                PRIVATELY OWNED CONVEYANCE (CHECK ONE)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AIL AIR  BUS  SHIP   AIR  VEHICLE  SHIP          RATE  PER MILE  .31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XX                                           [ ] MORE ADVANTAGEOUS TO GOVERN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ILEAGE REIMBURSEMENT AND PERDIEM 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 DETERMINED BY APPROPRIATE                   [ ]TO CONSTRUCTIVE COST OF COMMON CARRI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TRANSPORTATION OFFICER (O/S ONLY)                 TRANSPORTATION &amp; RELATED PER DIEM 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TERMINED IN JTR.  TRAVEL TIME L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AS INDICATED IN JTR.                   .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3.  [X]  PERDIEM AUTHORIZED IN ACCORDANCE WITH JT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[ ] OTHER RATE OF PER DIEM (SPECIFY)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4.                               ESTIMATED COST                           15.  ADVANCE      .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R DIEM            TRAVEL           OTHER             TOTAL            AUTHORIZE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$  365.00             $  425.00        $  0.00          $  790.00               MAX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  REMARKS  (USE THIS SPACE FOR SPECIAL REQUIREMENTS, LEAVE, SUPERIOR OR 1ST CLAS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SS BAGGAGE, REGISTRATION FEES, ETC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OVERNMENT QUARTERS AND MESSING FACILITITES ARE AVAILABL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REQUESTING OFFICIAL (TITLE/SIGNATURE)         18. APPROVING OFFICIAL (TITLE AND SIGNATUR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                  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ATHERINE GARRITY, CPT, AG,ADMIN OFFICER          ROBERT L. EICHLER, LTC, GS, COMPTROL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UTHORIZ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9. ACCOUNTING CI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1 BOR8888TT11132/N103 S09076  $425.00      HORANCE R. BEEM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2 BOR8888TT11132/N103 S09076  $365.00      MAJ, 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BUDGET OFFICER   .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.  ORDER AUTHORIZING OFFICIAL (TITLE AND SIGNATURE)               21.  DATE ISSU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                                   07 NOV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ILLY J. KING, MAJ, AG                                     22.  TRAVEL ORDER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O#11-13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5080" y="36576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440" y="25909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84456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15303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6248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1040" y="6934320"/>
            <a:ext cx="646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71629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30760" y="815328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6934320"/>
            <a:ext cx="22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32767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1430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152388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533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1149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30481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1981080"/>
            <a:ext cx="319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79311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320" y="8532720"/>
            <a:ext cx="2650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610 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352680" y="67896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3282840"/>
            <a:ext cx="0" cy="120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3809880"/>
            <a:ext cx="327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3282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3511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4959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4807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80" y="8686800"/>
            <a:ext cx="6246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 16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9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"/>
          <p:cNvSpPr/>
          <p:nvPr/>
        </p:nvSpPr>
        <p:spPr>
          <a:xfrm>
            <a:off x="38880" y="8674200"/>
            <a:ext cx="6246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 70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"/>
          <p:cNvSpPr/>
          <p:nvPr/>
        </p:nvSpPr>
        <p:spPr>
          <a:xfrm>
            <a:off x="38880" y="8610480"/>
            <a:ext cx="6246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 72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900000" y="444600"/>
            <a:ext cx="4601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STALLATION BLOCK TICKE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 USE OF THIS FORM, SEE AR 37-108; THE PROPONENT IS DF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000" y="977760"/>
            <a:ext cx="6570720" cy="7475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NR     TYPE DOCUMENT          NUMBER OF DOCUMENTS            DATE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51           TBO DISB / COLL                2                      *3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UND DISBURSEMENT JOURNAL                    OTHER  (                    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CCOUNT      DEBIT       CREDIT        ACCOUNT         DEBIT          CRED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41          $ 240.00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                              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OSTED TO AN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320" y="457200"/>
            <a:ext cx="654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6320" y="463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2440" y="1447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2440" y="1600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2440" y="1905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82440" y="54100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971800" y="1606680"/>
            <a:ext cx="0" cy="41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2440" y="57150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28800" y="1911240"/>
            <a:ext cx="0" cy="349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88620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18148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828800" y="54165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2440" y="2133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2440" y="23623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2440" y="26668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2440" y="29718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2440" y="3276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82440" y="35812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2440" y="3886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82440" y="4191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2440" y="44956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2440" y="48006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82440" y="5105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2440" y="6019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2440" y="66294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2440" y="7391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14300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096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7672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4956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4100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31400" y="8369280"/>
            <a:ext cx="368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A FORM 3974  1 NOV 72   (COMPUTER LOOK ALIK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629400" y="45720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880" y="8528040"/>
            <a:ext cx="6278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1                                                                                  74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73200" y="3297240"/>
            <a:ext cx="3387240" cy="580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UDENT 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SN:  5059, 110 REPORT  T/L  #D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3" name=""/>
          <p:cNvGraphicFramePr/>
          <p:nvPr/>
        </p:nvGraphicFramePr>
        <p:xfrm>
          <a:off x="0" y="0"/>
          <a:ext cx="6858000" cy="861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86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5" name=""/>
          <p:cNvSpPr/>
          <p:nvPr/>
        </p:nvSpPr>
        <p:spPr>
          <a:xfrm>
            <a:off x="39240" y="8521560"/>
            <a:ext cx="615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78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1000" y="74520"/>
            <a:ext cx="6684840" cy="955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QUEST AND AUTHORIZATION FOR TDY TRAVEL OF DOD PERSONNEL                    DATE OF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REFERENCE:  JOINT TRAVEL REGULATIONS)                               REQUES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AUTHORIZED AS INDICATED IN ITEMS 2 THROUGH 21.                    4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EQUEST FOR OFFICIAL TRAVEL                                      .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.  NAME (LAST, FIRST, MIDDLE INITIAL          3. POSITION TITLE AND GRADE OR R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ELGRAVE, DARRELL W.    234-56-0987          CPT AUDI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.     OFFICIAL STATION                        5.  ORGANIZATIONAL ELEMENT       6.  PHONE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                        INTERNAL REVIEW MGMT             24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.  TYPE OF ORDERS     8. SECURITY CLEARANCE   9.  PURPOSE OF TD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DY                   SECRET               MEETING FOR FUNDING RESERVE C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0a.APPROX NO OF DAY   b. PROCEED O/A (D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 TDY (INCLUDING)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TIME)                 18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ITINERARY             [ ]VARIATION AUTHORIZ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8 DEC **    FROM FT. STEWART - ARR CHICAGO, I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 DEC **    DEP CHICAGO - ARR FT. STEW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2.                           MODE OF TRANSPOR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OMMERCIAL               GOVERNMENT                PRIVATELY OWNED CONVEYANCE (CHECK ONE)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AIL AIR  BUS  SHIP   AIR  VEHICLE  SHIP          RATE  PER MILE  .31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 MORE ADVANTAGEOUS TO GOVERN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ILEAGE REIMBURSEMENT AND PERDIEM 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 DETERMINED BY APPROPRIATE                   [ ]TO CONSTRUCTIVE COST OF COMMON CARRI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TRANSPORTATION OFFICER (O/S ONLY)                 TRANSPORTATION &amp; RELATED PER DIEM 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TERMINED IN JTR.  TRAVEL TIME L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AS INDICATED IN JTR.                    .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3.  [X]  PERDIEM AUTHORIZED IN ACCORDANCE WITH JT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[ ] OTHER RATE OF PER DIEM (SPECIFY)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4.                               ESTIMATED COST                           15.  ADVANCE       .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R DIEM            TRAVEL           OTHER             TOTAL            AUTHORIZE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$  150.00             $  40.00        $  5.00          $  195.00               MAX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  REMARKS  (USE THIS SPACE FOR SPECIAL REQUIREMENTS, LEAVE, SUPERIOR OR 1ST CLAS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SS BAGGAGE, REGISTRATION FEES, ETC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PROGRAMMED.  QUARTERS AND MESSING ARE PROVID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REQUESTING OFFICIAL (TITLE/SIGNATURE)         18. APPROVING OFFICIAL (TITLE AND SIGNATUR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                  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LMA S. WRIGHT, 1LT, AG, ADMIN OFFICER           AARON R. ANDERSON, DAC, DEP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UTHORIZ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9. ACCOUNTING CI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1 BEL0987TT/NGOA  S09076  $ 40.00      HORANCE R. BEEM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2 BEL0987TT/NGOA  S09076  $155.00      MAJ, 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BUDGET OFFICER        .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.  ORDER AUTHORIZING OFFICIAL (TITLE AND SIGNATURE)               21.  DATE ISSU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2.  TRAVEL ORDER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5080" y="36576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440" y="25909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84456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15303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6248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1040" y="6934320"/>
            <a:ext cx="646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71629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0760" y="815328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6934320"/>
            <a:ext cx="22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32767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11430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152388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533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1149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0481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981080"/>
            <a:ext cx="319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79311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320" y="8461440"/>
            <a:ext cx="2650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610 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352680" y="67896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282840"/>
            <a:ext cx="0" cy="120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3809880"/>
            <a:ext cx="327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3282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3511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4959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4807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80" y="8610480"/>
            <a:ext cx="6246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  20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1000" y="74520"/>
            <a:ext cx="6684840" cy="982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QUEST AND AUTHORIZATION FOR TDY TRAVEL OF DOD PERSONNEL                    DATE OF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REFERENCE:  JOINT TRAVEL REGULATIONS)                               REQUES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AUTHORIZED AS INDICATED IN ITEMS 2 THROUGH 21.                    4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EQUEST FOR OFFICIAL TRAVEL                                      .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.  NAME (LAST, FIRST, MIDDLE INITIAL          3. POSITION TITLE AND GRADE OR R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ELGRAVE, DARRELL W.    234-56-0987          CPT AUDI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.     OFFICIAL STATION                        5.  ORGANIZATIONAL ELEMENT       6.  PHONE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                        INTERNAL REVIEW MGMT             24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.  TYPE OF ORDERS     8. SECURITY CLEARANCE   9.  PURPOSE OF TD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DY                   SECRET               MEETING FOR FUNDING RESERVE C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0a.APPROX NO OF DAY   b. PROCEED O/A (D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 TDY (INCLUDING)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TIME)                 18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ITINERARY      [ ]VARIATION AUTHORIZ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8 DEC **    FROM FT. STEWART - ARR CHICAGO, I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 DEC **    DEP CHICAGO - ARR FT. STEW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2.                           MODE OF TRANSPOR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OMMERCIAL               GOVERNMENT                PRIVATELY OWNED CONVEYANCE (CHECK ONE)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AIL AIR  BUS  SHIP   AIR  VEHICLE  SHIP          RATE  PER MILE  .31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 MORE ADVANTAGEOUS TO GOVERN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ILEAGE REIMBURSEMENT AND PERDIEM 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 DETERMINED BY APPROPRIATE                   [ ]TO CONSTRUCTIVE COST OF COMMON CARRI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TRANSPORTATION OFFICER (O/S ONLY)                 TRANSPORTATION &amp; RELATED PER DIEM 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TERMINED IN JTR.  TRAVEL TIME L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AS INDICATED IN JTR.                    .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3.  [X]  PERDIEM AUTHORIZED IN ACCORDANCE WITH JT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[ ] OTHER RATE OF PER DIEM (SPECIFY)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4.                               ESTIMATED COST                           15.  ADVANCE       .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R DIEM            TRAVEL           OTHER             TOTAL            AUTHORIZE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$  150.00             $  40.00        $  5.00          $  195.00               MAX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  REMARKS  (USE THIS SPACE FOR SPECIAL REQUIREMENTS, LEAVE, SUPERIOR OR 1ST CLAS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SS BAGGAGE, REGISTRATION FEES, ETC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PROGRAMMED.  QUARTERS AND MESSING ARE PROVID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REQUESTING OFFICIAL (TITLE/SIGNATURE)         18. APPROVING OFFICIAL (TITLE AND SIGNATUR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                  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LMA S. WRIGHT, 1LT, AG, ADMIN OFFICER           AARON R. ANDERSON, DAC, DEP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UTHORIZ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9. ACCOUNTING CI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1 BEL0987TT12009/NGOA  S09076  $ 40.00      HORANCE R. BEEM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2 BEL0987TT12009/NGOA  S09076  $155.00      MAJ, 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BUDGET OFFICER  .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.  ORDER AUTHORIZING OFFICIAL (TITLE AND SIGNATURE)               21.  DATE ISSU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                                     05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2.  TRAVEL ORDER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JOHN T. SHOLTO, MAJ, AG                                       TO# 12-009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5080" y="36576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440" y="25909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84456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15303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6248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1040" y="6934320"/>
            <a:ext cx="646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71629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30760" y="815328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6934320"/>
            <a:ext cx="22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32767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11430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152388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533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1149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30481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280" y="1981080"/>
            <a:ext cx="319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79311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320" y="8461440"/>
            <a:ext cx="2650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610 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352680" y="67896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282840"/>
            <a:ext cx="0" cy="120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3809880"/>
            <a:ext cx="327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282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3511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4959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4320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6252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4807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80" y="8610480"/>
            <a:ext cx="6246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  22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152280" y="457200"/>
          <a:ext cx="6400800" cy="868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6400800" cy="868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38880" y="8750160"/>
            <a:ext cx="6278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  24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68760" y="1370160"/>
            <a:ext cx="1342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RD FINANCE B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T. STEWART, GA  313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DSN:  63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 DEC 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50040" y="8750160"/>
            <a:ext cx="3462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    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04080" y="8610480"/>
            <a:ext cx="33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82640" y="1066680"/>
            <a:ext cx="508500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UDENT NO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MONTH RENTAL BEGINNING 1 DEC @ 10,000 PER 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228600" y="457200"/>
            <a:ext cx="6319800" cy="8308440"/>
            <a:chOff x="228600" y="457200"/>
            <a:chExt cx="6319800" cy="8308440"/>
          </a:xfrm>
        </p:grpSpPr>
        <p:sp>
          <p:nvSpPr>
            <p:cNvPr id="188" name=""/>
            <p:cNvSpPr/>
            <p:nvPr/>
          </p:nvSpPr>
          <p:spPr>
            <a:xfrm>
              <a:off x="228600" y="457200"/>
              <a:ext cx="4756320" cy="231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06560" y="500040"/>
              <a:ext cx="335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TERIAL INSPECTION AND RECEIVING RE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7653240"/>
              <a:ext cx="6319800" cy="966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7480" y="7696080"/>
              <a:ext cx="900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3. CONTRACTOR USE ONL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9520" y="43876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26280" y="4387680"/>
              <a:ext cx="2071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ENTAL CONTRACT SERVICE - DEC *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27720" y="52768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28080" y="5423040"/>
              <a:ext cx="8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28080" y="5576760"/>
              <a:ext cx="8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40360" y="4387680"/>
              <a:ext cx="464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,000.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2600" y="4387680"/>
              <a:ext cx="57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,000.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5240" y="1235160"/>
              <a:ext cx="495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5240" y="1235160"/>
              <a:ext cx="495360" cy="272880"/>
            </a:xfrm>
            <a:custGeom>
              <a:avLst/>
              <a:gdLst/>
              <a:ahLst/>
              <a:rect l="l" t="t" r="r" b="b"/>
              <a:pathLst>
                <a:path w="58" h="32">
                  <a:moveTo>
                    <a:pt x="58" y="32"/>
                  </a:move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615920" y="1260360"/>
              <a:ext cx="287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7.   PAG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13240" y="7251840"/>
              <a:ext cx="2135160" cy="411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69400" y="7251840"/>
              <a:ext cx="180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* If quantity received by the Government is th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65080" y="7346880"/>
              <a:ext cx="1520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same as quantity shipped, indicate by (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39760" y="1508040"/>
              <a:ext cx="2049480" cy="138240"/>
            </a:xfrm>
            <a:custGeom>
              <a:avLst/>
              <a:gdLst/>
              <a:ahLst/>
              <a:rect l="l" t="t" r="r" b="b"/>
              <a:pathLst>
                <a:path w="240" h="16">
                  <a:moveTo>
                    <a:pt x="0" y="0"/>
                  </a:moveTo>
                  <a:lnTo>
                    <a:pt x="240" y="0"/>
                  </a:lnTo>
                  <a:lnTo>
                    <a:pt x="240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2039760" y="1508040"/>
              <a:ext cx="1800" cy="13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67480" y="1525680"/>
              <a:ext cx="35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4. B/L  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79920" y="3970440"/>
              <a:ext cx="106848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25360" y="398772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0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34440" y="394488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05720" y="4192560"/>
              <a:ext cx="38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MOU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79920" y="4379760"/>
              <a:ext cx="1068480" cy="1778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13240" y="3970440"/>
              <a:ext cx="32400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47440" y="398772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8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48600" y="39448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31680" y="406404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73720" y="4192560"/>
              <a:ext cx="206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13240" y="4379760"/>
              <a:ext cx="324000" cy="1778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87400" y="3970440"/>
              <a:ext cx="279252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56240" y="3987720"/>
              <a:ext cx="107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6.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92320" y="3962520"/>
              <a:ext cx="1015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OCK/PART NO.        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78080" y="3987720"/>
              <a:ext cx="4032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00080" y="3962520"/>
              <a:ext cx="703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SCRIPTION 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67560" y="4081320"/>
              <a:ext cx="1879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(Indicate number of shipping containers - type o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22160" y="4192560"/>
              <a:ext cx="1200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container - container number.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19240" y="41925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87400" y="4379760"/>
              <a:ext cx="2792520" cy="1778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7960" y="6294600"/>
              <a:ext cx="1963800" cy="1368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00440" y="6311880"/>
              <a:ext cx="42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. ORIGI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8600" y="3970440"/>
              <a:ext cx="65880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2440" y="3987720"/>
              <a:ext cx="455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5.            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1440" y="4192560"/>
              <a:ext cx="21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T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8600" y="689040"/>
              <a:ext cx="6319800" cy="469800"/>
            </a:xfrm>
            <a:custGeom>
              <a:avLst/>
              <a:gdLst/>
              <a:ahLst/>
              <a:rect l="l" t="t" r="r" b="b"/>
              <a:pathLst>
                <a:path w="740" h="55">
                  <a:moveTo>
                    <a:pt x="0" y="0"/>
                  </a:moveTo>
                  <a:lnTo>
                    <a:pt x="740" y="0"/>
                  </a:lnTo>
                  <a:lnTo>
                    <a:pt x="74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28600" y="688680"/>
              <a:ext cx="1440" cy="46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3720" y="714240"/>
              <a:ext cx="5421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ublic reporting burden for this collection of information is estimated to average 30 minutes per response, including the time for reviewing instructions, searching existing data sources, gathering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4800" y="782640"/>
              <a:ext cx="5089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nd maintaining the data needed, and completing and reviewing the collection of information.  Send comments regarding this burden estimate or any other aspect of this collection of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0840" y="851040"/>
              <a:ext cx="5373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nformation, including suggestions for reducing this burden, to Department of Defense, Washington Headquarters Services, Directorate for Information Operations and Reports, 1215 Jeffers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8040" y="919080"/>
              <a:ext cx="4766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avis Highway, Suite 1204, Arlington, VA 22202-4302, and to the Office of Management and Budget, Paperwork Reduction Project (0704-0248), Washington, DC 20503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8600" y="1235160"/>
              <a:ext cx="238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8600" y="1235160"/>
              <a:ext cx="2382840" cy="272880"/>
            </a:xfrm>
            <a:custGeom>
              <a:avLst/>
              <a:gdLst/>
              <a:ahLst/>
              <a:rect l="l" t="t" r="r" b="b"/>
              <a:pathLst>
                <a:path w="279" h="32">
                  <a:moveTo>
                    <a:pt x="279" y="32"/>
                  </a:move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4240" y="1270080"/>
              <a:ext cx="1317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. PROC. INSTRUMENT IDEN. (CONTRACT)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81200" y="12445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1080" y="1336680"/>
              <a:ext cx="915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FI01-**-C 1713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32240" y="1235160"/>
              <a:ext cx="1143000" cy="272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68960" y="1270080"/>
              <a:ext cx="675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6. INVOICE NO./DAT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8600" y="1508040"/>
              <a:ext cx="990720" cy="411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7480" y="1525680"/>
              <a:ext cx="554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. SHIPMENT NO.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78040" y="15001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9640" y="1601640"/>
              <a:ext cx="270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72-8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39760" y="1508040"/>
              <a:ext cx="2049480" cy="274680"/>
            </a:xfrm>
            <a:custGeom>
              <a:avLst/>
              <a:gdLst/>
              <a:ahLst/>
              <a:rect l="l" t="t" r="r" b="b"/>
              <a:pathLst>
                <a:path w="240" h="32">
                  <a:moveTo>
                    <a:pt x="0" y="0"/>
                  </a:moveTo>
                  <a:lnTo>
                    <a:pt x="240" y="0"/>
                  </a:lnTo>
                  <a:lnTo>
                    <a:pt x="24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039760" y="1507680"/>
              <a:ext cx="1800" cy="27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72160" y="1482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72160" y="16034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89240" y="1508040"/>
              <a:ext cx="2459160" cy="411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19480" y="1525680"/>
              <a:ext cx="648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5. DISCOUNT TERM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27840" y="1601640"/>
              <a:ext cx="49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/10, N/3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0000" y="8628120"/>
              <a:ext cx="1158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D Form 250, NOV 9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59080" y="8688240"/>
              <a:ext cx="447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USAPPC V1.0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84920" y="457200"/>
              <a:ext cx="1563480" cy="231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22680" y="492120"/>
              <a:ext cx="586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Form Approved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25920" y="568440"/>
              <a:ext cx="584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OMB No. 0704-024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79920" y="1235160"/>
              <a:ext cx="1068480" cy="272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20240" y="1260360"/>
              <a:ext cx="7232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8. ACCEPTANCE POIN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11440" y="1235160"/>
              <a:ext cx="820800" cy="272880"/>
            </a:xfrm>
            <a:custGeom>
              <a:avLst/>
              <a:gdLst/>
              <a:ahLst/>
              <a:rect l="l" t="t" r="r" b="b"/>
              <a:pathLst>
                <a:path w="96" h="32">
                  <a:moveTo>
                    <a:pt x="96" y="0"/>
                  </a:moveTo>
                  <a:lnTo>
                    <a:pt x="96" y="32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11440" y="1235160"/>
              <a:ext cx="820800" cy="136440"/>
            </a:xfrm>
            <a:custGeom>
              <a:avLst/>
              <a:gdLst/>
              <a:ahLst/>
              <a:rect l="l" t="t" r="r" b="b"/>
              <a:pathLst>
                <a:path w="96" h="16">
                  <a:moveTo>
                    <a:pt x="0" y="0"/>
                  </a:moveTo>
                  <a:lnTo>
                    <a:pt x="96" y="0"/>
                  </a:lnTo>
                  <a:lnTo>
                    <a:pt x="96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2611440" y="1234800"/>
              <a:ext cx="1440" cy="13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52120" y="1260360"/>
              <a:ext cx="406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(ORDER) NO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19320" y="1508040"/>
              <a:ext cx="820440" cy="411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52080" y="1525680"/>
              <a:ext cx="560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3. DATE SHIPPED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860480" y="15001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54240" y="16016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39760" y="1697040"/>
              <a:ext cx="2049480" cy="222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71800" y="1757520"/>
              <a:ext cx="168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CN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8600" y="3286080"/>
              <a:ext cx="3203640" cy="684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57760" y="3328920"/>
              <a:ext cx="989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3. SHIPPED TO                   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33520" y="33037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58000" y="32860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0360" y="3430440"/>
              <a:ext cx="1100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US ARMY HOSPIT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1440" y="35766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7840" y="3720960"/>
              <a:ext cx="1404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ORT STEWART, GA 313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39760" y="3286080"/>
              <a:ext cx="1392480" cy="179280"/>
            </a:xfrm>
            <a:custGeom>
              <a:avLst/>
              <a:gdLst/>
              <a:ahLst/>
              <a:rect l="l" t="t" r="r" b="b"/>
              <a:pathLst>
                <a:path w="163" h="21">
                  <a:moveTo>
                    <a:pt x="0" y="0"/>
                  </a:moveTo>
                  <a:lnTo>
                    <a:pt x="163" y="0"/>
                  </a:lnTo>
                  <a:lnTo>
                    <a:pt x="163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2039760" y="3286080"/>
              <a:ext cx="1800" cy="17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" y="2603520"/>
              <a:ext cx="3203640" cy="682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8560" y="2646360"/>
              <a:ext cx="595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1. SHIPPED FRO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97840" y="2646360"/>
              <a:ext cx="474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(If other than 9)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55840" y="2646360"/>
              <a:ext cx="128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39760" y="2603520"/>
              <a:ext cx="733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039760" y="2603520"/>
              <a:ext cx="1800" cy="17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796840" y="2662200"/>
              <a:ext cx="151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OB: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53440" y="26370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32240" y="3286080"/>
              <a:ext cx="3116160" cy="684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67880" y="3328920"/>
              <a:ext cx="662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4. MARKED FOR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07680" y="3286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479920" y="3286080"/>
              <a:ext cx="1059120" cy="179280"/>
            </a:xfrm>
            <a:custGeom>
              <a:avLst/>
              <a:gdLst/>
              <a:ahLst/>
              <a:rect l="l" t="t" r="r" b="b"/>
              <a:pathLst>
                <a:path w="124" h="21">
                  <a:moveTo>
                    <a:pt x="0" y="0"/>
                  </a:moveTo>
                  <a:lnTo>
                    <a:pt x="124" y="0"/>
                  </a:lnTo>
                  <a:lnTo>
                    <a:pt x="124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5479920" y="3286080"/>
              <a:ext cx="1800" cy="17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32240" y="2603520"/>
              <a:ext cx="3116160" cy="682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468600" y="2646360"/>
              <a:ext cx="1012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2. PAYMENT WILL BE MADE BY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73280" y="27478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73280" y="28926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69680" y="3038400"/>
              <a:ext cx="1404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ORT STEWART, GA 313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79920" y="2603520"/>
              <a:ext cx="1059120" cy="179280"/>
            </a:xfrm>
            <a:custGeom>
              <a:avLst/>
              <a:gdLst/>
              <a:ahLst/>
              <a:rect l="l" t="t" r="r" b="b"/>
              <a:pathLst>
                <a:path w="124" h="21">
                  <a:moveTo>
                    <a:pt x="0" y="0"/>
                  </a:moveTo>
                  <a:lnTo>
                    <a:pt x="124" y="0"/>
                  </a:lnTo>
                  <a:lnTo>
                    <a:pt x="124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479920" y="2603520"/>
              <a:ext cx="1800" cy="17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432240" y="1919160"/>
              <a:ext cx="3116160" cy="684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69680" y="1962000"/>
              <a:ext cx="749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0. ADMINISTERED BY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92640" y="191916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472200" y="2063880"/>
              <a:ext cx="75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&amp;C OFFICE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469680" y="2208240"/>
              <a:ext cx="1404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ORT STEWART, GA 313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79920" y="1919160"/>
              <a:ext cx="1059120" cy="179640"/>
            </a:xfrm>
            <a:custGeom>
              <a:avLst/>
              <a:gdLst/>
              <a:ahLst/>
              <a:rect l="l" t="t" r="r" b="b"/>
              <a:pathLst>
                <a:path w="124" h="21">
                  <a:moveTo>
                    <a:pt x="0" y="0"/>
                  </a:moveTo>
                  <a:lnTo>
                    <a:pt x="124" y="0"/>
                  </a:lnTo>
                  <a:lnTo>
                    <a:pt x="124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5479920" y="1918800"/>
              <a:ext cx="1800" cy="17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8600" y="1919160"/>
              <a:ext cx="3203640" cy="684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7120" y="1962000"/>
              <a:ext cx="762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9. PRIME CONTRACTOR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81440" y="19191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0360" y="2063880"/>
              <a:ext cx="1722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QUALITY X-RAY SERVICES INC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965 INDUSTRIAL BLV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AVANNAH,   GA 31314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9280" y="2208240"/>
              <a:ext cx="1315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965 INDUSTRIAL BLV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1440" y="23544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039760" y="1919160"/>
              <a:ext cx="1392480" cy="179640"/>
            </a:xfrm>
            <a:custGeom>
              <a:avLst/>
              <a:gdLst/>
              <a:ahLst/>
              <a:rect l="l" t="t" r="r" b="b"/>
              <a:pathLst>
                <a:path w="163" h="21">
                  <a:moveTo>
                    <a:pt x="0" y="0"/>
                  </a:moveTo>
                  <a:lnTo>
                    <a:pt x="163" y="0"/>
                  </a:lnTo>
                  <a:lnTo>
                    <a:pt x="163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039760" y="1918800"/>
              <a:ext cx="1800" cy="17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44520" y="8637480"/>
              <a:ext cx="1178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Previous edition may be used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37240" y="3970440"/>
              <a:ext cx="74268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788720" y="398772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9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98160" y="3944880"/>
              <a:ext cx="54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61960" y="406404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57480" y="4192560"/>
              <a:ext cx="502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T PRI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79920" y="3970440"/>
              <a:ext cx="73332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38600" y="3987720"/>
              <a:ext cx="473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7.             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07000" y="4081320"/>
              <a:ext cx="447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62720" y="4192560"/>
              <a:ext cx="535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HIP/REC'D*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600" y="6157800"/>
              <a:ext cx="4184640" cy="136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60600" y="6167520"/>
              <a:ext cx="1471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TRACT QUALITY ASSURAN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0720" y="619272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1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13240" y="6157800"/>
              <a:ext cx="2135160" cy="1094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54640" y="6183360"/>
              <a:ext cx="12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2.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16280" y="6157800"/>
              <a:ext cx="1152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CEIVER'S U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64720" y="6346800"/>
              <a:ext cx="177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Quantities shown in column 17 were receiv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66520" y="6432480"/>
              <a:ext cx="170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 apparent good condition except as noted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43840" y="6738840"/>
              <a:ext cx="1814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ATE RECEIVED           SIGNATURE OF AUTH GOVT RE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55000" y="691848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YPED NAM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53560" y="7013520"/>
              <a:ext cx="389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ND OFFIC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13240" y="6705720"/>
              <a:ext cx="735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232240" y="6705720"/>
              <a:ext cx="131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01760" y="6294600"/>
              <a:ext cx="2211480" cy="1368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945520" y="6311880"/>
              <a:ext cx="703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. DESTIN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4400" y="6568920"/>
              <a:ext cx="1634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as been made by me or under my super-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3680" y="6680160"/>
              <a:ext cx="167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ision and they conform to contract, excep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3320" y="6799320"/>
              <a:ext cx="174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 noted herein or on supporting documents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6360" y="6423120"/>
              <a:ext cx="119160" cy="13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0720" y="6458040"/>
              <a:ext cx="192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Q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08120" y="6423120"/>
              <a:ext cx="118800" cy="13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88120" y="6475320"/>
              <a:ext cx="1169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CEPTANCE of listed item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78080" y="6431040"/>
              <a:ext cx="120600" cy="137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49440" y="6475320"/>
              <a:ext cx="192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Q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89200" y="6431040"/>
              <a:ext cx="119160" cy="137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59840" y="6475320"/>
              <a:ext cx="1169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CEPTANCE of listed item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58280" y="6568920"/>
              <a:ext cx="2001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as been made by me or under my supervision a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59360" y="6680160"/>
              <a:ext cx="1879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y conform to contract, except as noted herei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52520" y="6799320"/>
              <a:ext cx="1113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 on supporting documents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0360" y="736272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YPED NAM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68920" y="7473960"/>
              <a:ext cx="389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ND OFFIC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43520" y="736272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YPED NAM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42080" y="7473960"/>
              <a:ext cx="346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ND TIITL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54840" y="195264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154840" y="263700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154840" y="332100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713240" y="195264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13240" y="263700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713240" y="332100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201760" y="7115040"/>
              <a:ext cx="614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413800" y="7132680"/>
              <a:ext cx="17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859120" y="7115040"/>
              <a:ext cx="1554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083400" y="7132680"/>
              <a:ext cx="1024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IGNATURE OF AUTH GOVT RE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4280" y="7115040"/>
              <a:ext cx="45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50000" y="7132680"/>
              <a:ext cx="17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9640" y="7115040"/>
              <a:ext cx="1392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57600" y="7132680"/>
              <a:ext cx="1024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IGNATURE OF AUTH GOVT RE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70600" y="1235160"/>
              <a:ext cx="409320" cy="272880"/>
            </a:xfrm>
            <a:custGeom>
              <a:avLst/>
              <a:gdLst/>
              <a:ahLst/>
              <a:rect l="l" t="t" r="r" b="b"/>
              <a:pathLst>
                <a:path w="48" h="32">
                  <a:moveTo>
                    <a:pt x="48" y="0"/>
                  </a:moveTo>
                  <a:lnTo>
                    <a:pt x="48" y="32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70600" y="1235160"/>
              <a:ext cx="409320" cy="13644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0" y="0"/>
                  </a:moveTo>
                  <a:lnTo>
                    <a:pt x="48" y="0"/>
                  </a:lnTo>
                  <a:lnTo>
                    <a:pt x="48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5070600" y="1234800"/>
              <a:ext cx="1440" cy="13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11640" y="1260360"/>
              <a:ext cx="90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0480" y="437976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0480" y="442260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90480" y="4475160"/>
              <a:ext cx="18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90480" y="45165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0480" y="45594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90480" y="4611600"/>
              <a:ext cx="18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690480" y="465444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90480" y="46972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90480" y="473868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90480" y="4791240"/>
            <a:ext cx="18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0480" y="483408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480" y="487692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480" y="4927680"/>
            <a:ext cx="18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90480" y="497052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0480" y="501336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0480" y="5064120"/>
            <a:ext cx="180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90480" y="510696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90480" y="514980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0480" y="5200560"/>
            <a:ext cx="180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0480" y="524340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90480" y="528624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90480" y="53290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90480" y="5380200"/>
            <a:ext cx="18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90480" y="542304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90480" y="546588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90480" y="5516640"/>
            <a:ext cx="18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90480" y="555948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0480" y="560232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90480" y="5654520"/>
            <a:ext cx="1800" cy="16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90480" y="569592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90480" y="573876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0480" y="5791320"/>
            <a:ext cx="180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90480" y="583416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90480" y="58752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90480" y="591804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90480" y="5970600"/>
            <a:ext cx="180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90480" y="601344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90480" y="60562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90480" y="6107040"/>
            <a:ext cx="180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90480" y="614988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6129360" y="7354800"/>
            <a:ext cx="93600" cy="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129360" y="738036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67240" y="7432560"/>
            <a:ext cx="158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if different, enter actual quantity receiv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62200" y="7526160"/>
            <a:ext cx="1418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below quantity shipped and encirc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93080" y="7346880"/>
            <a:ext cx="29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) mark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446480" y="979560"/>
            <a:ext cx="387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LEASE DO NOT RETURN YOUR COMPLETED FORM TO EITHER OF THESE ADDRESSE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011960" y="1090440"/>
            <a:ext cx="4623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THIS FORM IN ACCORDANCE WITH THE INSTRUCTIONS CONTAINED IN THE DFARS, APPENDIX F-401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011920" y="6850080"/>
            <a:ext cx="835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nis Ro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O, GM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" y="457200"/>
            <a:ext cx="6319800" cy="8163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72960" y="6881760"/>
            <a:ext cx="70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 Dec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984760" y="6881760"/>
            <a:ext cx="1126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Michael Gor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382640" y="6494400"/>
            <a:ext cx="70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 Dec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280480" y="6494400"/>
            <a:ext cx="1051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Dennis Ro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873520" y="7186680"/>
            <a:ext cx="1371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CHAEL GOR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acting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20880" y="4861080"/>
            <a:ext cx="299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7*0130 74-7406 847792.33-2320 W23DFB*3190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HBA 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80" y="8686800"/>
            <a:ext cx="6278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  32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768480" y="4343400"/>
            <a:ext cx="57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Mon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152280" y="152280"/>
          <a:ext cx="6858000" cy="830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6858000" cy="83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38880" y="8521560"/>
            <a:ext cx="6310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  34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40040" y="219240"/>
            <a:ext cx="1864080" cy="393480"/>
          </a:xfrm>
          <a:prstGeom prst="rect">
            <a:avLst/>
          </a:prstGeom>
          <a:noFill/>
          <a:ln w="5724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ORGIA B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 AMERITECH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934880" y="495360"/>
            <a:ext cx="107748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56440" y="927000"/>
            <a:ext cx="149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ORGIA B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O. BOX 70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VANNAH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55360" y="1562040"/>
            <a:ext cx="16218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ST SIGNAL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LDG 200, RM 1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T. STEWART, GA 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798800" y="1079640"/>
            <a:ext cx="1813680" cy="54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OUNT PA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  14, 773                 00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7160" y="2141640"/>
            <a:ext cx="6321240" cy="54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URRENT CHARGES                                                                               TOTAL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ST DUE AFTER....  JAN 5, **                                                             AMOUNT DUE:  $14,773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47600" y="2890800"/>
            <a:ext cx="64864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TACH AND MAIL TOP PORTION WITH YOUR CHECK MADE PAYABLE TO GEORGIA BELL FOR THE TOTAL AMOUNT D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01480" y="3429000"/>
            <a:ext cx="58737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8560" y="3619440"/>
            <a:ext cx="1374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LLING SUMM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76320" y="3645000"/>
            <a:ext cx="112320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912)  355-X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89720" y="4152960"/>
            <a:ext cx="78660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C 26,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01520" y="4533840"/>
            <a:ext cx="6599160" cy="100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VIOUS                                                                                                PAST DUE              CURRENT               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LL                           PAYMENTS             ADJUSTMENTS                  AMOUNT              CHARGES     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13,965.00                   $13,965.00                   $0.00                                        0.00                  $14,773.00                 $14,773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807080" y="1295280"/>
            <a:ext cx="1282680" cy="298440"/>
            <a:chOff x="4807080" y="1295280"/>
            <a:chExt cx="1282680" cy="298440"/>
          </a:xfrm>
        </p:grpSpPr>
        <p:sp>
          <p:nvSpPr>
            <p:cNvPr id="452" name=""/>
            <p:cNvSpPr/>
            <p:nvPr/>
          </p:nvSpPr>
          <p:spPr>
            <a:xfrm>
              <a:off x="4807080" y="12952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67280" y="13017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358920" y="5473800"/>
            <a:ext cx="6036840" cy="32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MMARY OF CURRENT CHAR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ORGIA B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FOR DETAILED CHARGES - SEE PAG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NTHLY SERVICE .........................................................................................................................$13,463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NG DISTANCE................................................................................................................................$ 1,31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DIANA BELL CURRENT CHARGES............................................................................................$ 14,773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&amp;T 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FOR DETAILED CHARGES - SEE PAGE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NG DISTANCE..................................................................................................................................$         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&amp;T COMMUNICATIONS CURRENT CHARGES..........................................................................$        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TAL CURRENT CHARGES..............................................................................................................$14,773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03-3116 117095.00-2330 PHN12**GEOBELL/ISAA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 CERTIFY THAT THE SERVICE CALLED FOR IN THE DELIVERY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S BEEN RENDERED PER THE TERMS &amp; SPECIFICATIONS OF TH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RD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ORGIA BELL                                                                             /S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 AMERITECH COMPANY                                       RUPERT O. TAYL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J, 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 DEC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6280" y="7238880"/>
            <a:ext cx="598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52600" y="8096400"/>
            <a:ext cx="1714320" cy="419040"/>
          </a:xfrm>
          <a:prstGeom prst="rect">
            <a:avLst/>
          </a:prstGeom>
          <a:noFill/>
          <a:ln w="381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03360" y="531720"/>
            <a:ext cx="7027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6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2440" y="495288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066680" y="4530600"/>
            <a:ext cx="0" cy="86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19400" y="4540320"/>
            <a:ext cx="0" cy="86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62200" y="4540320"/>
            <a:ext cx="0" cy="86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29240" y="4540320"/>
            <a:ext cx="0" cy="86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734080" y="4540320"/>
            <a:ext cx="0" cy="86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8880" y="8610480"/>
            <a:ext cx="6246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 38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9T10:01:06Z</dcterms:created>
  <dc:creator>Soldier Support Institute</dc:creator>
  <dc:description/>
  <dc:language>en-US</dc:language>
  <cp:lastModifiedBy>Administrator</cp:lastModifiedBy>
  <cp:lastPrinted>2000-12-19T13:38:21Z</cp:lastPrinted>
  <dcterms:modified xsi:type="dcterms:W3CDTF">2004-09-16T14:53:30Z</dcterms:modified>
  <cp:revision>81</cp:revision>
  <dc:subject/>
  <dc:title>BLOCK TOTAL RETURN</dc:title>
</cp:coreProperties>
</file>